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13003213" cy="97567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1105380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37960" y="4522680"/>
            <a:ext cx="1105380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3796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80220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5120" y="121932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612640" y="121932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37960" y="452268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875120" y="452268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612640" y="452268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37960" y="380520"/>
            <a:ext cx="11053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3796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0220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37960" y="4522680"/>
            <a:ext cx="1105380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1105380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37960" y="4522680"/>
            <a:ext cx="1105380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3796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0220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5120" y="121932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612640" y="121932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37960" y="452268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75120" y="452268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612640" y="452268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37960" y="380520"/>
            <a:ext cx="11053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3796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0220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37960" y="4522680"/>
            <a:ext cx="1105380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5" descr="ECEO_Pos_MonoTest2"/>
          <p:cNvPicPr/>
          <p:nvPr/>
        </p:nvPicPr>
        <p:blipFill>
          <a:blip r:embed="rId2"/>
          <a:stretch/>
        </p:blipFill>
        <p:spPr>
          <a:xfrm rot="21169800">
            <a:off x="10896480" y="7973640"/>
            <a:ext cx="1397160" cy="1397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1" marL="1057320" indent="-406440">
              <a:spcBef>
                <a:spcPts val="825"/>
              </a:spcBef>
              <a:buClr>
                <a:srgbClr val="4b4b4b"/>
              </a:buClr>
              <a:buFont typeface="Arial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2" marL="1625760" indent="-325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3" marL="2276640" indent="-325440">
              <a:spcBef>
                <a:spcPts val="825"/>
              </a:spcBef>
              <a:buClr>
                <a:srgbClr val="4b4b4b"/>
              </a:buClr>
              <a:buFont typeface="Arial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4" marL="2925720" indent="-325440">
              <a:spcBef>
                <a:spcPts val="825"/>
              </a:spcBef>
              <a:buClr>
                <a:srgbClr val="4b4b4b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5" marL="2925720" indent="-32544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6" marL="2925720" indent="-32544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3" name="Picture 13" descr=""/>
          <p:cNvPicPr/>
          <p:nvPr/>
        </p:nvPicPr>
        <p:blipFill>
          <a:blip r:embed="rId3"/>
          <a:stretch/>
        </p:blipFill>
        <p:spPr>
          <a:xfrm>
            <a:off x="1128600" y="8915400"/>
            <a:ext cx="283392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54" descr="DETearly368_Sml"/>
          <p:cNvPicPr/>
          <p:nvPr/>
        </p:nvPicPr>
        <p:blipFill>
          <a:blip r:embed="rId2"/>
          <a:stretch/>
        </p:blipFill>
        <p:spPr>
          <a:xfrm>
            <a:off x="9279000" y="7910640"/>
            <a:ext cx="1465200" cy="14652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55" descr="ECEO_Pos_MonoTest2"/>
          <p:cNvPicPr/>
          <p:nvPr/>
        </p:nvPicPr>
        <p:blipFill>
          <a:blip r:embed="rId3"/>
          <a:stretch/>
        </p:blipFill>
        <p:spPr>
          <a:xfrm rot="21180600">
            <a:off x="10896120" y="7620120"/>
            <a:ext cx="1397160" cy="13968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9" descr="DETearly722_Sml"/>
          <p:cNvPicPr/>
          <p:nvPr/>
        </p:nvPicPr>
        <p:blipFill>
          <a:blip r:embed="rId4"/>
          <a:stretch/>
        </p:blipFill>
        <p:spPr>
          <a:xfrm>
            <a:off x="4478400" y="7910640"/>
            <a:ext cx="1465200" cy="1465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0" descr="DETearly805_Sml"/>
          <p:cNvPicPr/>
          <p:nvPr/>
        </p:nvPicPr>
        <p:blipFill>
          <a:blip r:embed="rId5"/>
          <a:stretch/>
        </p:blipFill>
        <p:spPr>
          <a:xfrm>
            <a:off x="6078600" y="7910640"/>
            <a:ext cx="1466640" cy="1465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8" descr="DETearly281_Sml"/>
          <p:cNvPicPr/>
          <p:nvPr/>
        </p:nvPicPr>
        <p:blipFill>
          <a:blip r:embed="rId6"/>
          <a:stretch/>
        </p:blipFill>
        <p:spPr>
          <a:xfrm>
            <a:off x="7678800" y="7910640"/>
            <a:ext cx="1465200" cy="1465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"/>
          <p:cNvPicPr/>
          <p:nvPr/>
        </p:nvPicPr>
        <p:blipFill>
          <a:blip r:embed="rId7"/>
          <a:stretch/>
        </p:blipFill>
        <p:spPr>
          <a:xfrm>
            <a:off x="1128600" y="8915400"/>
            <a:ext cx="2833920" cy="515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1" marL="1057320" indent="-406440">
              <a:spcBef>
                <a:spcPts val="825"/>
              </a:spcBef>
              <a:buClr>
                <a:srgbClr val="4b4b4b"/>
              </a:buClr>
              <a:buFont typeface="Arial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2" marL="1625760" indent="-325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3" marL="2276640" indent="-325440">
              <a:spcBef>
                <a:spcPts val="825"/>
              </a:spcBef>
              <a:buClr>
                <a:srgbClr val="4b4b4b"/>
              </a:buClr>
              <a:buFont typeface="Arial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4" marL="2925720" indent="-325440">
              <a:spcBef>
                <a:spcPts val="825"/>
              </a:spcBef>
              <a:buClr>
                <a:srgbClr val="4b4b4b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5" marL="2925720" indent="-32544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6" marL="2925720" indent="-32544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Agenda</a:t>
            </a: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96000"/>
          </a:bodyPr>
          <a:p>
            <a:pPr marL="467640" indent="-46764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67640" indent="-4676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Observing an identifying reading behaviours</a:t>
            </a: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   10 min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67640" indent="-46764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67640" indent="-4676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Guided Reading Module</a:t>
            </a: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   90min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67640" indent="-4676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67640" indent="-4676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The World of Literacy</a:t>
            </a: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   10 min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67640" indent="-4676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67640" indent="-4676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School Literacy Plans Review</a:t>
            </a: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   10 min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67640" indent="-4676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67640" indent="-4676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Picture Story Book</a:t>
            </a: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   10 min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67640" indent="-4676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67640" indent="-4676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3" marL="2185560" indent="-312120">
              <a:spcBef>
                <a:spcPts val="476"/>
              </a:spcBef>
              <a:tabLst>
                <a:tab algn="l" pos="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900" spc="-1" strike="noStrike">
              <a:solidFill>
                <a:srgbClr val="4b4b4b"/>
              </a:solidFill>
              <a:latin typeface="Arial"/>
            </a:endParaRPr>
          </a:p>
          <a:p>
            <a:pPr marL="467640" indent="-4676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tle 1"/>
          <p:cNvSpPr/>
          <p:nvPr/>
        </p:nvSpPr>
        <p:spPr>
          <a:xfrm>
            <a:off x="938160" y="382680"/>
            <a:ext cx="1117764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GUIDED READING </a:t>
            </a:r>
            <a:br>
              <a:rPr sz="43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assroom Indicators- Instruction (Continued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650880" y="1525680"/>
            <a:ext cx="11702880" cy="64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eacher prompts assist students to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gage in text orientation and activate prior knowledge, connections and thin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epen comprehen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lop prediction skills and understanding of the reading and writing process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other students to help solve 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ion ideas of the auth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k questions a reader asks when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itle 1"/>
          <p:cNvSpPr/>
          <p:nvPr/>
        </p:nvSpPr>
        <p:spPr>
          <a:xfrm>
            <a:off x="938160" y="382680"/>
            <a:ext cx="1117764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GUIDED READING </a:t>
            </a:r>
            <a:br>
              <a:rPr sz="43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assroom Indicators- Resourc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650880" y="2009880"/>
            <a:ext cx="11702880" cy="67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Adequate variety of texts in multiple copies - a set of 6 copies and an additional copy for the teacher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mall group organisation &amp; tasks are  clearly defined and visible e.g. management board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"/>
          <p:cNvPicPr/>
          <p:nvPr/>
        </p:nvPicPr>
        <p:blipFill>
          <a:blip r:embed="rId1"/>
          <a:stretch/>
        </p:blipFill>
        <p:spPr>
          <a:xfrm>
            <a:off x="938160" y="992160"/>
            <a:ext cx="11087280" cy="7846920"/>
          </a:xfrm>
          <a:prstGeom prst="rect">
            <a:avLst/>
          </a:prstGeom>
          <a:ln w="0">
            <a:noFill/>
          </a:ln>
        </p:spPr>
      </p:pic>
      <p:sp>
        <p:nvSpPr>
          <p:cNvPr id="120" name="Right Arrow 2"/>
          <p:cNvSpPr/>
          <p:nvPr/>
        </p:nvSpPr>
        <p:spPr>
          <a:xfrm>
            <a:off x="1547640" y="3811680"/>
            <a:ext cx="2667240" cy="990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eft Arrow 3"/>
          <p:cNvSpPr/>
          <p:nvPr/>
        </p:nvSpPr>
        <p:spPr>
          <a:xfrm>
            <a:off x="8710560" y="3887640"/>
            <a:ext cx="2895480" cy="106704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100" spc="-1" strike="noStrike">
                <a:solidFill>
                  <a:srgbClr val="ff0000"/>
                </a:solidFill>
                <a:latin typeface="Arial"/>
              </a:rPr>
              <a:t>How do we identify an instructional focus?</a:t>
            </a:r>
            <a:endParaRPr b="1" lang="en-US" sz="41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785880" y="1449360"/>
            <a:ext cx="11702880" cy="64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eaching for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Ondemand: Adaptive Line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 re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ading Response Jour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Other formative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dependent Reading Conferen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18306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AU" sz="4400" spc="-1" strike="noStrike">
                <a:solidFill>
                  <a:srgbClr val="ff0000"/>
                </a:solidFill>
                <a:latin typeface="Arial"/>
              </a:rPr>
              <a:t>How Do We Select Appropriate Text?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650880" y="2276640"/>
            <a:ext cx="11702880" cy="64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ased on instructional focus and knowledge of students in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xt needs to be appropriate to students’ learning needs, backgrounds, interests, exper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xt may have links to current topic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Usually a new text for students, but may be re-visited for a specific 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xt at an appropriate level: no more than 5-10 difficulties in every 100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hoto of GR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itle 1"/>
          <p:cNvSpPr/>
          <p:nvPr/>
        </p:nvSpPr>
        <p:spPr>
          <a:xfrm>
            <a:off x="1138320" y="380880"/>
            <a:ext cx="110538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Arial"/>
              </a:rPr>
              <a:t>Questioning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Content Placeholder 2"/>
          <p:cNvSpPr/>
          <p:nvPr/>
        </p:nvSpPr>
        <p:spPr>
          <a:xfrm>
            <a:off x="633240" y="1220760"/>
            <a:ext cx="5869080" cy="64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Literal Question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there. The answer is clearly in the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Inferentia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 and 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 Knowledge + Text C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11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Evaluativ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Your 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own knowledge plus what the author has sa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90080" y="1144080"/>
            <a:ext cx="11052360" cy="19386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“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USTRALIA’S PRINCIPLE EXPORT IS NOW COAL.”</a:t>
            </a:r>
            <a:br>
              <a:rPr sz="4000"/>
            </a:b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1014480" y="3125880"/>
            <a:ext cx="2590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t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Australia’s main expo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main export is coal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4824360" y="4726080"/>
            <a:ext cx="3429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ferent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coal our only expo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stralia has other expor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l has not always been our main ex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8786880" y="2744640"/>
            <a:ext cx="3832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valu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do we expo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ies need to export to earn money from overseas. “Australia, the lucky country”.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26720" y="6269040"/>
            <a:ext cx="11052360" cy="19382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GUIDED READING 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26720" y="4134960"/>
            <a:ext cx="11052360" cy="2133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>
                <a:solidFill>
                  <a:srgbClr val="4b4b4b"/>
                </a:solidFill>
                <a:latin typeface="Arial"/>
              </a:rPr>
              <a:t>Modelled Session- SNOOK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What are the other students doing?</a:t>
            </a: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Working independently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Working in groups on reading tasks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Well planned activities that reinforce prior teaching focus, literacy strategies and awareness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1130400" y="1359000"/>
            <a:ext cx="10934640" cy="48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50760" tIns="65160" bIns="65160" anchor="ctr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br>
              <a:rPr sz="6300"/>
            </a:br>
            <a:r>
              <a:rPr b="0" i="1" lang="en-US" sz="6300" spc="-1" strike="noStrike">
                <a:solidFill>
                  <a:srgbClr val="000000"/>
                </a:solidFill>
                <a:latin typeface="Arial"/>
              </a:rPr>
              <a:t>Does it look different across year levels?</a:t>
            </a:r>
            <a:br>
              <a:rPr sz="6300"/>
            </a:br>
            <a:br>
              <a:rPr sz="1400"/>
            </a:b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Identifying Reading Behaviours</a:t>
            </a: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26720" y="6269040"/>
            <a:ext cx="11052360" cy="19382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AKING STOCK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26720" y="4134960"/>
            <a:ext cx="11052360" cy="2133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Reference</a:t>
            </a: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6720" y="1395360"/>
            <a:ext cx="11703240" cy="75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Breakthrough         </a:t>
            </a: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Fullan Hill and Crevol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Literacy Teaching and Learning in Victorian Schools </a:t>
            </a: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[Paper No 9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Teaching for Comprehending  and Fluency     </a:t>
            </a: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Fountas and Pinnel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Guided Reading      </a:t>
            </a: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Fountas and Pinnel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Effective Literacy Practice 1-4 and 5-8       </a:t>
            </a: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NZ Ministry of Educ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Victorian Essential Learning Standards      </a:t>
            </a: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DEEC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Resources</a:t>
            </a: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990720" y="2819520"/>
            <a:ext cx="1104876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atching onto Comprehension- Pearso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NAPLAN resource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AIM resource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The World of Literacy</a:t>
            </a: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NAPLAN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EOI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Short term literacy strategy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DEECD Key Characteristics Document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Di Snowbal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Blah, blah, blah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What’s HOT and what’s NOT?</a:t>
            </a:r>
            <a:br>
              <a:rPr sz="4300"/>
            </a:b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onsider your school literacy plan</a:t>
            </a:r>
            <a:br>
              <a:rPr sz="4300"/>
            </a:b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90080" y="2287080"/>
            <a:ext cx="11053800" cy="63248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What’s HOT in your school right now? Are you on track?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What’s NOT hot in your school right now? What do you need to do?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Considerations for 2010?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1166760" y="915840"/>
            <a:ext cx="10667880" cy="297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6600" spc="-1" strike="noStrike">
                <a:solidFill>
                  <a:srgbClr val="ffffff"/>
                </a:solidFill>
                <a:latin typeface="Arial"/>
              </a:rPr>
              <a:t>GUIDED READ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6600" spc="-1" strike="noStrike">
                <a:solidFill>
                  <a:srgbClr val="ffffff"/>
                </a:solidFill>
                <a:latin typeface="Arial"/>
              </a:rPr>
              <a:t>P-1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1166760" y="3201840"/>
            <a:ext cx="4572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ddon Mallee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itle 1"/>
          <p:cNvSpPr/>
          <p:nvPr/>
        </p:nvSpPr>
        <p:spPr>
          <a:xfrm>
            <a:off x="1138320" y="380880"/>
            <a:ext cx="11053800" cy="838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algn="ctr"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LITERACY ELEME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ontent Placeholder 2"/>
          <p:cNvSpPr/>
          <p:nvPr/>
        </p:nvSpPr>
        <p:spPr>
          <a:xfrm>
            <a:off x="100080" y="1677960"/>
            <a:ext cx="544968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Read Aloud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Shared Read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Guided Read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Independent Read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Up-Down Arrow 4"/>
          <p:cNvSpPr/>
          <p:nvPr/>
        </p:nvSpPr>
        <p:spPr>
          <a:xfrm>
            <a:off x="5281560" y="1373040"/>
            <a:ext cx="2743200" cy="5943600"/>
          </a:xfrm>
          <a:prstGeom prst="upDownArrow">
            <a:avLst>
              <a:gd name="adj1" fmla="val 50000"/>
              <a:gd name="adj2" fmla="val 50004"/>
            </a:avLst>
          </a:prstGeom>
          <a:solidFill>
            <a:srgbClr val="ff0000">
              <a:alpha val="8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EAKING &amp; LIST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BSERV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&am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ASSESS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ontent Placeholder 3"/>
          <p:cNvSpPr/>
          <p:nvPr/>
        </p:nvSpPr>
        <p:spPr>
          <a:xfrm>
            <a:off x="7907400" y="1677960"/>
            <a:ext cx="50958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Write Aloud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Shared Writ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Guided Writ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Independent Writ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10466280" y="6097680"/>
            <a:ext cx="574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0EC3-B0B6-432A-ACA2-95CCD947D0F9}" type="slidenum">
              <a:rPr b="0" lang="en-A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861840" y="382680"/>
            <a:ext cx="1127772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GRADUAL RELEASE OF RESPONSIBILITY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9"/>
          <p:cNvSpPr/>
          <p:nvPr/>
        </p:nvSpPr>
        <p:spPr>
          <a:xfrm>
            <a:off x="2766960" y="2957400"/>
            <a:ext cx="1676520" cy="2362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ODELL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teacher demonstrates and explains the literacy focus being taught. This is achieved by thinking aloud the mental processes and modelling the reading, writing, speaking and list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1"/>
          <p:cNvSpPr/>
          <p:nvPr/>
        </p:nvSpPr>
        <p:spPr>
          <a:xfrm>
            <a:off x="2766960" y="5624640"/>
            <a:ext cx="1676520" cy="1079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student participates by actively attending to the demonstr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4"/>
          <p:cNvSpPr/>
          <p:nvPr/>
        </p:nvSpPr>
        <p:spPr>
          <a:xfrm>
            <a:off x="4976640" y="2957400"/>
            <a:ext cx="1676520" cy="1800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HAR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teacher continues to demonstrate the literacy focus, encouraging students to contribute ideas and inform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5"/>
          <p:cNvSpPr/>
          <p:nvPr/>
        </p:nvSpPr>
        <p:spPr>
          <a:xfrm>
            <a:off x="4976640" y="5243400"/>
            <a:ext cx="1676520" cy="1440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udents contribute ideas and begin to practise the use of the literacy focus in whole class situ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6"/>
          <p:cNvSpPr/>
          <p:nvPr/>
        </p:nvSpPr>
        <p:spPr>
          <a:xfrm>
            <a:off x="7262640" y="2957400"/>
            <a:ext cx="1676520" cy="144000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GUID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The teacher provides scaffolds for students to use the literacy focus. Teacher provides feedbac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7"/>
          <p:cNvSpPr/>
          <p:nvPr/>
        </p:nvSpPr>
        <p:spPr>
          <a:xfrm>
            <a:off x="7262640" y="4938840"/>
            <a:ext cx="1676520" cy="180000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tudents work with help from the teacher and peers to practise the use of the literacy foc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9"/>
          <p:cNvSpPr/>
          <p:nvPr/>
        </p:nvSpPr>
        <p:spPr>
          <a:xfrm>
            <a:off x="9548640" y="2957400"/>
            <a:ext cx="1676520" cy="1079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PPLY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teacher offers support and encouragement when necess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0"/>
          <p:cNvSpPr/>
          <p:nvPr/>
        </p:nvSpPr>
        <p:spPr>
          <a:xfrm>
            <a:off x="9548640" y="4557600"/>
            <a:ext cx="1676520" cy="2159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student works independently to apply the use of literacy foc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3"/>
          <p:cNvSpPr/>
          <p:nvPr/>
        </p:nvSpPr>
        <p:spPr>
          <a:xfrm>
            <a:off x="1700280" y="2424240"/>
            <a:ext cx="866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le of the teac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5"/>
          <p:cNvSpPr/>
          <p:nvPr/>
        </p:nvSpPr>
        <p:spPr>
          <a:xfrm>
            <a:off x="1776240" y="6935760"/>
            <a:ext cx="889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le of the stud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9"/>
          <p:cNvSpPr/>
          <p:nvPr/>
        </p:nvSpPr>
        <p:spPr>
          <a:xfrm>
            <a:off x="8151840" y="6824520"/>
            <a:ext cx="34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Arial"/>
              </a:rPr>
              <a:t>Pearson &amp; Gallagh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3"/>
          <p:cNvSpPr/>
          <p:nvPr/>
        </p:nvSpPr>
        <p:spPr>
          <a:xfrm rot="16200000">
            <a:off x="267120" y="4698720"/>
            <a:ext cx="374508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100" spc="-1" strike="noStrike">
                <a:solidFill>
                  <a:srgbClr val="000000"/>
                </a:solidFill>
                <a:latin typeface="Arial"/>
              </a:rPr>
              <a:t>DEGREE OF 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938160" y="992160"/>
            <a:ext cx="11087280" cy="78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37960" y="1218960"/>
            <a:ext cx="11053800" cy="20588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 algn="ctr">
              <a:spcBef>
                <a:spcPts val="9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Arial"/>
              </a:rPr>
              <a:t>Donut</a:t>
            </a:r>
            <a:br>
              <a:rPr sz="3600"/>
            </a:br>
            <a:r>
              <a:rPr b="0" lang="en-US" sz="3600" spc="-1" strike="noStrike">
                <a:solidFill>
                  <a:srgbClr val="4b4b4b"/>
                </a:solidFill>
                <a:latin typeface="Arial"/>
              </a:rPr>
              <a:t>or</a:t>
            </a:r>
            <a:br>
              <a:rPr sz="3600"/>
            </a:br>
            <a:r>
              <a:rPr b="0" lang="en-US" sz="3600" spc="-1" strike="noStrike">
                <a:solidFill>
                  <a:srgbClr val="4b4b4b"/>
                </a:solidFill>
                <a:latin typeface="Arial"/>
              </a:rPr>
              <a:t>Inside Outside Line</a:t>
            </a: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 algn="ctr">
              <a:spcBef>
                <a:spcPts val="9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 algn="ctr">
              <a:spcBef>
                <a:spcPts val="9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1246320" y="4371840"/>
            <a:ext cx="10350360" cy="2449800"/>
          </a:xfrm>
          <a:prstGeom prst="roundRect">
            <a:avLst>
              <a:gd name="adj" fmla="val 15000"/>
            </a:avLst>
          </a:prstGeom>
          <a:solidFill>
            <a:srgbClr val="ff0000"/>
          </a:solidFill>
          <a:ln w="25560">
            <a:solidFill>
              <a:srgbClr val="a3d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50760" tIns="65160" bIns="65160" anchor="ctr">
            <a:noAutofit/>
          </a:bodyPr>
          <a:p>
            <a:pPr marL="487440" indent="-487440" algn="ctr">
              <a:lnSpc>
                <a:spcPct val="8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 algn="ctr">
              <a:lnSpc>
                <a:spcPct val="8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 algn="ctr">
              <a:lnSpc>
                <a:spcPct val="8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AT IS GUIDED READING? WHAT IS ITS PURPOSE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 algn="ctr">
              <a:lnSpc>
                <a:spcPct val="8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 algn="ctr">
              <a:lnSpc>
                <a:spcPct val="8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 algn="ctr">
              <a:lnSpc>
                <a:spcPct val="8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tle 4"/>
          <p:cNvSpPr/>
          <p:nvPr/>
        </p:nvSpPr>
        <p:spPr>
          <a:xfrm>
            <a:off x="1166760" y="458640"/>
            <a:ext cx="11053800" cy="838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GUIDED READING                  </a:t>
            </a:r>
            <a:r>
              <a:rPr b="1" lang="en-US" sz="4300" spc="-1" strike="noStrike">
                <a:solidFill>
                  <a:srgbClr val="a6a6a6"/>
                </a:solidFill>
                <a:latin typeface="Arial"/>
              </a:rPr>
              <a:t>Description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ontent Placeholder 5"/>
          <p:cNvSpPr/>
          <p:nvPr/>
        </p:nvSpPr>
        <p:spPr>
          <a:xfrm>
            <a:off x="1090440" y="1754280"/>
            <a:ext cx="110538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The teacher and a small group of students </a:t>
            </a: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talk,</a:t>
            </a: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 their way purposefully through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common text, working collaborativel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tle 1"/>
          <p:cNvSpPr/>
          <p:nvPr/>
        </p:nvSpPr>
        <p:spPr>
          <a:xfrm>
            <a:off x="1014480" y="380880"/>
            <a:ext cx="1117764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GUIDED READING </a:t>
            </a:r>
            <a:br>
              <a:rPr sz="43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assroom Indicators-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Content Placeholder 2"/>
          <p:cNvSpPr/>
          <p:nvPr/>
        </p:nvSpPr>
        <p:spPr>
          <a:xfrm>
            <a:off x="861840" y="1677960"/>
            <a:ext cx="110538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Teache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oup and regroup students using ongoing observation and assessmen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efully plan strategic reading instruction and explicitly teach small groups of student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ect texts appropriate for the  common instructional needs of the group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mote active engagement in thoughtful group discuss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000000"/>
                </a:solidFill>
                <a:latin typeface="Arial"/>
              </a:rPr>
              <a:t>Time scheduled daily - each group approx. 20 minut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23:42:49Z</dcterms:created>
  <dc:creator>Cato Purnell</dc:creator>
  <dc:description/>
  <dc:language>en-US</dc:language>
  <cp:lastModifiedBy>Kylie Lipscombe</cp:lastModifiedBy>
  <dcterms:modified xsi:type="dcterms:W3CDTF">2009-10-07T03:27:47Z</dcterms:modified>
  <cp:revision>51</cp:revision>
  <dc:subject/>
  <dc:title>PowerPoint Presentation</dc:title>
</cp:coreProperties>
</file>